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2D04-B971-4E33-98E5-714D72FE1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838C-E911-4DD3-AE50-1381452591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3EE1-7213-4B53-811E-059BC222D6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F62A-B472-401C-9313-7863CD18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93B5-11D6-44D7-BDA9-E5384D75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2872-23B4-46B4-9761-C3F573BE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6F62-27C4-4FE2-995E-2CB2B418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BE00-37B6-49D8-B8CB-FCDED831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8271-A205-4D65-BDA5-526D0243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F6AA-23E9-4AFE-AB2B-1A2C67AF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A736-8B47-41BB-A77E-D8C2F245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93EC-658A-4785-BA12-CB3F8FD5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2BB6-BF74-4DD4-9F4D-C2BF093A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4542-D6BA-494A-B91A-92EDDB9C9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9CC1-85A9-4F4A-AB5A-BB8FC213F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5F8B-E7B1-4169-9D18-755E304C9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83F7-1C20-40B5-84B6-6C8FBF7D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1FF7-07F6-4183-A8E7-C4046E71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378B-0D65-4A0F-B1C9-58B0EE40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34D4-DD3C-4F20-BA8C-B79D3D15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A401-249B-456F-A077-D7C40F20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BE44-596B-43B8-8520-EA5A4F4F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56EA-0FB3-4AD8-A470-0CB1C76B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C44A-EE28-410A-8986-61ECD45A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7727-1A1A-4B24-B844-5D47F6BA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014A-3285-4C8E-ADBD-2CFA33FBF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B199-628C-407F-9B94-33C661D97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8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5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8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8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42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2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43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0490-260C-486B-8513-A826173073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DED7-2338-4F1C-9D45-ED61D403A7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6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837720" y="1523880"/>
            <a:ext cx="71247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94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hancing partnership among Africa RISING, NAFAKA and TUBORESHE CHAKULA Programs for fast tracking delivery and scaling of agricultural technologies in Tanz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112480" y="4648320"/>
            <a:ext cx="4575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Haroon Ssegu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Scaling Speciali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Text Placeholder 2"/>
          <p:cNvSpPr/>
          <p:nvPr/>
        </p:nvSpPr>
        <p:spPr>
          <a:xfrm>
            <a:off x="2438280" y="3733920"/>
            <a:ext cx="4575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Overview: Year 2 progr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Moving forwa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1"/>
          <p:cNvSpPr/>
          <p:nvPr/>
        </p:nvSpPr>
        <p:spPr>
          <a:xfrm>
            <a:off x="380880" y="213372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NAFAKA statu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its implications on the project next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alibri"/>
              </a:rPr>
              <a:t>Expanding  x 5 tim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What are the implications for realizing the result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team/subteam should articulate its strategy for next year or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alibri"/>
              </a:rPr>
              <a:t>Clarification to beneficiar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bout the project focus (clear messag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 </a:t>
            </a:r>
            <a:r>
              <a:rPr b="1" lang="en-US" sz="2400" spc="-1" strike="noStrike">
                <a:solidFill>
                  <a:srgbClr val="000066"/>
                </a:solidFill>
                <a:latin typeface="Calibri"/>
              </a:rPr>
              <a:t>integr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th other components of the value chain (markets, inputs, processing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120" y="1447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Gill Sans"/>
              </a:rPr>
              <a:t>Acknowledg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pSp>
        <p:nvGrpSpPr>
          <p:cNvPr id="513" name="Group 1"/>
          <p:cNvGrpSpPr/>
          <p:nvPr/>
        </p:nvGrpSpPr>
        <p:grpSpPr>
          <a:xfrm>
            <a:off x="1066680" y="4444920"/>
            <a:ext cx="7012080" cy="2154240"/>
            <a:chOff x="1066680" y="4444920"/>
            <a:chExt cx="7012080" cy="2154240"/>
          </a:xfrm>
        </p:grpSpPr>
        <p:pic>
          <p:nvPicPr>
            <p:cNvPr id="514" name="Picture 2" descr=""/>
            <p:cNvPicPr/>
            <p:nvPr/>
          </p:nvPicPr>
          <p:blipFill>
            <a:blip r:embed="rId1"/>
            <a:stretch/>
          </p:blipFill>
          <p:spPr>
            <a:xfrm>
              <a:off x="1066680" y="5819760"/>
              <a:ext cx="685800" cy="7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Picture 11" descr="P:\logos\c\cimmyt\CIMMYT Logo.jpg"/>
            <p:cNvPicPr/>
            <p:nvPr/>
          </p:nvPicPr>
          <p:blipFill>
            <a:blip r:embed="rId2"/>
            <a:stretch/>
          </p:blipFill>
          <p:spPr>
            <a:xfrm>
              <a:off x="7117920" y="5057280"/>
              <a:ext cx="960840" cy="72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Picture 2" descr="P:\logos\i\ICRISAT\icrisat-logo.jpg"/>
            <p:cNvPicPr/>
            <p:nvPr/>
          </p:nvPicPr>
          <p:blipFill>
            <a:blip r:embed="rId3"/>
            <a:stretch/>
          </p:blipFill>
          <p:spPr>
            <a:xfrm>
              <a:off x="4509720" y="6036480"/>
              <a:ext cx="1507320" cy="56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Picture 6" descr="AVRDC – The World Vegetable Center — avrdc.org"/>
            <p:cNvPicPr/>
            <p:nvPr/>
          </p:nvPicPr>
          <p:blipFill>
            <a:blip r:embed="rId4"/>
            <a:srcRect l="0" t="0" r="63858" b="0"/>
            <a:stretch/>
          </p:blipFill>
          <p:spPr>
            <a:xfrm>
              <a:off x="1066680" y="5148360"/>
              <a:ext cx="1967040" cy="53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7" descr="P:\logos\i\iita\IITA_regular-sienna_with slogan (2).JPG"/>
            <p:cNvPicPr/>
            <p:nvPr/>
          </p:nvPicPr>
          <p:blipFill>
            <a:blip r:embed="rId5"/>
            <a:stretch/>
          </p:blipFill>
          <p:spPr>
            <a:xfrm>
              <a:off x="4190760" y="4444920"/>
              <a:ext cx="1123200" cy="56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Picture 14" descr=""/>
            <p:cNvPicPr/>
            <p:nvPr/>
          </p:nvPicPr>
          <p:blipFill>
            <a:blip r:embed="rId6"/>
            <a:stretch/>
          </p:blipFill>
          <p:spPr>
            <a:xfrm>
              <a:off x="4145400" y="5191200"/>
              <a:ext cx="1569240" cy="67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5840" y="1294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Acknowledg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53352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stry of Agriculture, Livestock and Fisheries (MALF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I Hombolo, ARI Chollima/Dakawa; ARI Selian; KATRIN; HORTI-Tenge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FAKA partners (IFDC, RUDI, FIPS, MVIWATA), private sector actors (marketing, process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ICOs: Kilosa, Mvomero, Babati, Iringa rural, Kilolo, Mbarali, Mbozi, Kongwa, Kiteto and Kilombero distri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inata Seeds, Meru Agro, Other input suppli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Picture 24" descr=""/>
          <p:cNvPicPr/>
          <p:nvPr/>
        </p:nvPicPr>
        <p:blipFill>
          <a:blip r:embed="rId1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Background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ID FtF  investments in the Zone of Influ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ing at least 47,000 households with access to the technologies to diversify and increase their food supply and income sources, and improve the quality of degrading smallholder cropland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ing the area under improved rice production technologies by at least 58,000 h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ing yields of both maize and rice by 50% per unit area as a result of  these technologies being adop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2" descr="C:\Users\user\AppData\Local\Microsoft\Windows\INetCache\Content.Outlook\76WYE4AT\AR_NAFAKA_Action_Districts_12042016.jpg"/>
          <p:cNvPicPr/>
          <p:nvPr/>
        </p:nvPicPr>
        <p:blipFill>
          <a:blip r:embed="rId1"/>
          <a:stretch/>
        </p:blipFill>
        <p:spPr>
          <a:xfrm>
            <a:off x="685800" y="1219320"/>
            <a:ext cx="75438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Key fa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Rectangle 1"/>
          <p:cNvSpPr/>
          <p:nvPr/>
        </p:nvSpPr>
        <p:spPr>
          <a:xfrm>
            <a:off x="380880" y="26668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Team effor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Good; generally on track to realize targ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alibri"/>
              </a:rPr>
              <a:t>Reorganization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ice team lead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Management and coordination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ality leadership, advice, commi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" dur="500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83808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Key action areas for better scal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Oval 3"/>
          <p:cNvSpPr/>
          <p:nvPr/>
        </p:nvSpPr>
        <p:spPr>
          <a:xfrm>
            <a:off x="824040" y="3314880"/>
            <a:ext cx="2514600" cy="190476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Oval 4"/>
          <p:cNvSpPr/>
          <p:nvPr/>
        </p:nvSpPr>
        <p:spPr>
          <a:xfrm>
            <a:off x="2057400" y="3352680"/>
            <a:ext cx="2514600" cy="190512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2" name="TextBox 31" descr=""/>
          <p:cNvPicPr/>
          <p:nvPr/>
        </p:nvPicPr>
        <p:blipFill>
          <a:blip r:embed="rId1"/>
          <a:stretch/>
        </p:blipFill>
        <p:spPr>
          <a:xfrm>
            <a:off x="987480" y="4041720"/>
            <a:ext cx="1066680" cy="920880"/>
          </a:xfrm>
          <a:prstGeom prst="rect">
            <a:avLst/>
          </a:prstGeom>
          <a:ln w="0">
            <a:noFill/>
          </a:ln>
        </p:spPr>
      </p:pic>
      <p:pic>
        <p:nvPicPr>
          <p:cNvPr id="493" name="TextBox 32" descr=""/>
          <p:cNvPicPr/>
          <p:nvPr/>
        </p:nvPicPr>
        <p:blipFill>
          <a:blip r:embed="rId2"/>
          <a:stretch/>
        </p:blipFill>
        <p:spPr>
          <a:xfrm>
            <a:off x="3273480" y="3889440"/>
            <a:ext cx="1450800" cy="646200"/>
          </a:xfrm>
          <a:prstGeom prst="rect">
            <a:avLst/>
          </a:prstGeom>
          <a:ln w="0">
            <a:noFill/>
          </a:ln>
        </p:spPr>
      </p:pic>
      <p:sp>
        <p:nvSpPr>
          <p:cNvPr id="494" name="Rounded Rectangle 33"/>
          <p:cNvSpPr/>
          <p:nvPr/>
        </p:nvSpPr>
        <p:spPr>
          <a:xfrm>
            <a:off x="1828800" y="205740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Investor (USAI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ounded Rectangle 34"/>
          <p:cNvSpPr/>
          <p:nvPr/>
        </p:nvSpPr>
        <p:spPr>
          <a:xfrm>
            <a:off x="1600200" y="5791320"/>
            <a:ext cx="2438280" cy="99036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Benefici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(Smallhol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6" name="Straight Arrow Connector 37"/>
          <p:cNvCxnSpPr/>
          <p:nvPr/>
        </p:nvCxnSpPr>
        <p:spPr>
          <a:xfrm>
            <a:off x="3428640" y="2971800"/>
            <a:ext cx="108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7" name="Straight Arrow Connector 38"/>
          <p:cNvCxnSpPr/>
          <p:nvPr/>
        </p:nvCxnSpPr>
        <p:spPr>
          <a:xfrm>
            <a:off x="2209320" y="2971800"/>
            <a:ext cx="108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98" name="TextBox 39"/>
          <p:cNvSpPr/>
          <p:nvPr/>
        </p:nvSpPr>
        <p:spPr>
          <a:xfrm>
            <a:off x="2133720" y="3962520"/>
            <a:ext cx="1052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Common man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Up-Down Arrow 40"/>
          <p:cNvSpPr/>
          <p:nvPr/>
        </p:nvSpPr>
        <p:spPr>
          <a:xfrm>
            <a:off x="2666880" y="5257800"/>
            <a:ext cx="228600" cy="533520"/>
          </a:xfrm>
          <a:prstGeom prst="upDownArrow">
            <a:avLst>
              <a:gd name="adj1" fmla="val 50000"/>
              <a:gd name="adj2" fmla="val 50015"/>
            </a:avLst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Box 42"/>
          <p:cNvSpPr/>
          <p:nvPr/>
        </p:nvSpPr>
        <p:spPr>
          <a:xfrm>
            <a:off x="4815000" y="1808280"/>
            <a:ext cx="425268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CG centers should operate with national research institutions in all s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NAFAKA as a consortium has many development actors that matter. We should involve them; identify others – NGOs, private s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MS PGothic"/>
              </a:rPr>
              <a:t>Leverage resources (N2Afr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alibri"/>
                <a:ea typeface="MS PGothic"/>
              </a:rPr>
              <a:t>Deepen work with DAICOs especially VAEOS/WAE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Better communication and coordination (with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beneficiari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,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MS PGothic"/>
              </a:rPr>
              <a:t>subordinat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,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  <a:ea typeface="MS PGothic"/>
              </a:rPr>
              <a:t>team lead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41"/>
          <p:cNvSpPr/>
          <p:nvPr/>
        </p:nvSpPr>
        <p:spPr>
          <a:xfrm>
            <a:off x="1219320" y="1224000"/>
            <a:ext cx="89913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7f09"/>
                </a:solidFill>
                <a:latin typeface="Calibri"/>
                <a:ea typeface="MS PGothic"/>
              </a:rPr>
              <a:t>1. Partnership – ‘winning’ arrange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28600" y="1447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2. Documentation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alibri"/>
              </a:rPr>
              <a:t>“</a:t>
            </a:r>
            <a:r>
              <a:rPr b="0" lang="en-US" sz="3600" spc="-1" strike="noStrike">
                <a:solidFill>
                  <a:srgbClr val="3333cc"/>
                </a:solidFill>
                <a:latin typeface="Calibri"/>
              </a:rPr>
              <a:t>If it is not recorded, it did not happen!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2. Docu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"/>
          <p:cNvSpPr/>
          <p:nvPr/>
        </p:nvSpPr>
        <p:spPr>
          <a:xfrm>
            <a:off x="609480" y="213372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ff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Interna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tributes of technologies including ‘cost-benefit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ining materials (manuals, flyers, fact shee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gnposts for the dem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6368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2. Documentation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6840" y="1417680"/>
            <a:ext cx="33526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ii. Capacity buil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eld Liaison staff training (May 2016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AID M&amp;E partners’ meetings (quarterl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"/>
          <p:cNvSpPr/>
          <p:nvPr/>
        </p:nvSpPr>
        <p:spPr>
          <a:xfrm>
            <a:off x="609480" y="3909960"/>
            <a:ext cx="312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iii. Progress and updates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nitoring data (DCF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Success sto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3886200" y="1828800"/>
            <a:ext cx="4673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7:37:57Z</dcterms:created>
  <dc:creator>Haroon Sseguya</dc:creator>
  <dc:description/>
  <dc:language>en-US</dc:language>
  <cp:lastModifiedBy>Haroon Sseguya</cp:lastModifiedBy>
  <cp:lastPrinted>2011-10-06T11:45:23Z</cp:lastPrinted>
  <dcterms:modified xsi:type="dcterms:W3CDTF">2016-07-04T05:36:17Z</dcterms:modified>
  <cp:revision>30</cp:revision>
  <dc:subject/>
  <dc:title>PowerPoint Presentation</dc:title>
</cp:coreProperties>
</file>